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20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21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22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523D-8D32-43C9-B05E-6653E698DE4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E6C0-1F8E-4DE1-A3DF-E3D33C522B7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B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039320" y="1411200"/>
            <a:ext cx="6961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039320" y="4256280"/>
            <a:ext cx="696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06560" y="210672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3932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06560" y="4256280"/>
            <a:ext cx="339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9300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747040" y="210672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03932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9300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747040" y="4256280"/>
            <a:ext cx="224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9671-E5DD-457E-B083-F9517DF35B1B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330B5CC9-0FAD-44D6-AE7D-CDF46582CC8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54160" y="658296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1D7A-669E-4EF7-8220-3A6E9A406B4A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9"/>
          <p:cNvSpPr/>
          <p:nvPr/>
        </p:nvSpPr>
        <p:spPr>
          <a:xfrm>
            <a:off x="7912080" y="6593040"/>
            <a:ext cx="11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D135-0BFC-4408-AC6F-1EE9638B3DF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" name="Picture 23" descr="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13" name="Imagem 18" descr="gizlogo-unternehmen-de-hks.jpg"/>
          <p:cNvPicPr/>
          <p:nvPr/>
        </p:nvPicPr>
        <p:blipFill>
          <a:blip r:embed="rId4"/>
          <a:stretch/>
        </p:blipFill>
        <p:spPr>
          <a:xfrm>
            <a:off x="299880" y="128520"/>
            <a:ext cx="190512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8F00-876A-488A-BE6E-B7A0F47A4573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432E080A-EF56-4366-9A66-F0ECA2014B9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60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7912080" y="6593040"/>
            <a:ext cx="11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2283-935A-4651-86EF-05AF6186A39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4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65" name="Picture 23" descr="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466" name="Imagem 18" descr="gizlogo-unternehmen-de-hks.jpg"/>
          <p:cNvPicPr/>
          <p:nvPr/>
        </p:nvPicPr>
        <p:blipFill>
          <a:blip r:embed="rId4"/>
          <a:stretch/>
        </p:blipFill>
        <p:spPr>
          <a:xfrm>
            <a:off x="299880" y="128520"/>
            <a:ext cx="1905120" cy="49536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6"/>
          </p:nvPr>
        </p:nvSpPr>
        <p:spPr>
          <a:xfrm>
            <a:off x="254160" y="658296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8C2A-D5E1-4188-A82E-DB1A25E9D4FC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7"/>
          </p:nvPr>
        </p:nvSpPr>
        <p:spPr>
          <a:xfrm>
            <a:off x="35208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6012-8D09-4542-A0B5-480EEDE18675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2A2AE4F7-8733-4ED6-A339-91A77104DAD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4" name="Text Box 19"/>
          <p:cNvSpPr/>
          <p:nvPr/>
        </p:nvSpPr>
        <p:spPr>
          <a:xfrm>
            <a:off x="7912080" y="6593040"/>
            <a:ext cx="11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AF75-A1C7-4315-8948-96AD5030176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5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16" name="Picture 23" descr="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517" name="Imagem 18" descr="gizlogo-unternehmen-de-hks.jpg"/>
          <p:cNvPicPr/>
          <p:nvPr/>
        </p:nvPicPr>
        <p:blipFill>
          <a:blip r:embed="rId4"/>
          <a:stretch/>
        </p:blipFill>
        <p:spPr>
          <a:xfrm>
            <a:off x="299880" y="128520"/>
            <a:ext cx="1905120" cy="4953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8"/>
          </p:nvPr>
        </p:nvSpPr>
        <p:spPr>
          <a:xfrm>
            <a:off x="254160" y="658296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5ECC-5115-49A2-9382-6C93F0F7B8CF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19"/>
          </p:nvPr>
        </p:nvSpPr>
        <p:spPr>
          <a:xfrm>
            <a:off x="35208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6DCB-5265-4318-A815-851FCE091C7F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BB041FD8-1C54-4C45-9222-CF7090DAD49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9" name="Picture 20" descr="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Imagem 26" descr="gizlogo-unternehmen-de-hks.jpg"/>
          <p:cNvPicPr/>
          <p:nvPr/>
        </p:nvPicPr>
        <p:blipFill>
          <a:blip r:embed="rId4"/>
          <a:stretch/>
        </p:blipFill>
        <p:spPr>
          <a:xfrm>
            <a:off x="299880" y="128520"/>
            <a:ext cx="1905120" cy="495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305F-7FC7-4B63-9537-DE372D389197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3682724D-C818-4612-8E26-BDE55BE17CFF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912080" y="6593040"/>
            <a:ext cx="11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F89B-2AC4-48CB-BDDA-9EFB4F7C78F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08" name="Picture 23" descr="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Imagem 18" descr="gizlogo-unternehmen-de-hks.jpg"/>
          <p:cNvPicPr/>
          <p:nvPr/>
        </p:nvPicPr>
        <p:blipFill>
          <a:blip r:embed="rId4"/>
          <a:stretch/>
        </p:blipFill>
        <p:spPr>
          <a:xfrm>
            <a:off x="299880" y="128520"/>
            <a:ext cx="1905120" cy="495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2"/>
          </p:nvPr>
        </p:nvSpPr>
        <p:spPr>
          <a:xfrm>
            <a:off x="254160" y="658296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B1A6-5E29-4048-B484-1631423F228D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3"/>
          </p:nvPr>
        </p:nvSpPr>
        <p:spPr>
          <a:xfrm>
            <a:off x="35208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1AF8-BC07-4CC0-BA80-E6E902CFC8DD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E7F88097-9E85-44B6-931F-17238FC3D84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7912080" y="6593040"/>
            <a:ext cx="11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356E-6077-44B4-810B-FC7713154A9F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59" name="Picture 23" descr="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160" name="Imagem 18" descr="gizlogo-unternehmen-de-hks.jpg"/>
          <p:cNvPicPr/>
          <p:nvPr/>
        </p:nvPicPr>
        <p:blipFill>
          <a:blip r:embed="rId4"/>
          <a:stretch/>
        </p:blipFill>
        <p:spPr>
          <a:xfrm>
            <a:off x="299880" y="128520"/>
            <a:ext cx="1905120" cy="495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4"/>
          </p:nvPr>
        </p:nvSpPr>
        <p:spPr>
          <a:xfrm>
            <a:off x="254160" y="658296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64D0-9433-4526-988C-FAB8A77CD560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5"/>
          </p:nvPr>
        </p:nvSpPr>
        <p:spPr>
          <a:xfrm>
            <a:off x="35208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8EB1-981B-4D07-BAC2-B30B5EBDF0FB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EDD1F9DF-E34F-4916-9826-4D32F2CE834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7912080" y="6593040"/>
            <a:ext cx="11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64C0-9C3B-4362-B8FC-FABC869C5FA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0" name="Picture 23" descr="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Imagem 18" descr="gizlogo-unternehmen-de-hks.jpg"/>
          <p:cNvPicPr/>
          <p:nvPr/>
        </p:nvPicPr>
        <p:blipFill>
          <a:blip r:embed="rId4"/>
          <a:stretch/>
        </p:blipFill>
        <p:spPr>
          <a:xfrm>
            <a:off x="299880" y="128520"/>
            <a:ext cx="190512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6"/>
          </p:nvPr>
        </p:nvSpPr>
        <p:spPr>
          <a:xfrm>
            <a:off x="254160" y="658296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54C7-0116-4320-A17C-4D8A55B7CB70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7"/>
          </p:nvPr>
        </p:nvSpPr>
        <p:spPr>
          <a:xfrm>
            <a:off x="35208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19FE-B257-4DFF-94BF-CF6D4DD356F8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ABD7AB05-F169-4AE4-ABD6-942F1E34E9F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55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7912080" y="6593040"/>
            <a:ext cx="11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3B57-AE4A-48E8-855F-3540FFDEC7B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61" name="Picture 23" descr="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Imagem 18" descr="gizlogo-unternehmen-de-hks.jpg"/>
          <p:cNvPicPr/>
          <p:nvPr/>
        </p:nvPicPr>
        <p:blipFill>
          <a:blip r:embed="rId4"/>
          <a:stretch/>
        </p:blipFill>
        <p:spPr>
          <a:xfrm>
            <a:off x="299880" y="128520"/>
            <a:ext cx="1905120" cy="4953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8"/>
          </p:nvPr>
        </p:nvSpPr>
        <p:spPr>
          <a:xfrm>
            <a:off x="254160" y="658296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AC6B-70DD-4B2C-8076-153BF5DBD481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9"/>
          </p:nvPr>
        </p:nvSpPr>
        <p:spPr>
          <a:xfrm>
            <a:off x="35208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9CAF-29E8-4BA7-8850-3C7890B80D68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2454E6E1-01BD-406F-9CE6-25D3ECC6B9C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7912080" y="6593040"/>
            <a:ext cx="11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2306-A9C5-48EB-A415-9FF2F742E17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12" name="Picture 23" descr="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313" name="Imagem 18" descr="gizlogo-unternehmen-de-hks.jpg"/>
          <p:cNvPicPr/>
          <p:nvPr/>
        </p:nvPicPr>
        <p:blipFill>
          <a:blip r:embed="rId4"/>
          <a:stretch/>
        </p:blipFill>
        <p:spPr>
          <a:xfrm>
            <a:off x="299880" y="128520"/>
            <a:ext cx="1905120" cy="495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0"/>
          </p:nvPr>
        </p:nvSpPr>
        <p:spPr>
          <a:xfrm>
            <a:off x="254160" y="658296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D5DC-5593-4BDB-9C83-C4D403A73C65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1"/>
          </p:nvPr>
        </p:nvSpPr>
        <p:spPr>
          <a:xfrm>
            <a:off x="35208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6D0C-A8FF-4874-9ACF-D78027AA401C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67036DF5-9DAF-4978-823A-AD20D11E3ED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58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7912080" y="6593040"/>
            <a:ext cx="11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CD3A-846F-4117-91A1-78A0736AA93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62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63" name="Picture 23" descr="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364" name="Imagem 18" descr="gizlogo-unternehmen-de-hks.jpg"/>
          <p:cNvPicPr/>
          <p:nvPr/>
        </p:nvPicPr>
        <p:blipFill>
          <a:blip r:embed="rId4"/>
          <a:stretch/>
        </p:blipFill>
        <p:spPr>
          <a:xfrm>
            <a:off x="299880" y="128520"/>
            <a:ext cx="1905120" cy="4953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2"/>
          </p:nvPr>
        </p:nvSpPr>
        <p:spPr>
          <a:xfrm>
            <a:off x="254160" y="658296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2C44-F608-488F-A60A-2874C57E0CFA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3"/>
          </p:nvPr>
        </p:nvSpPr>
        <p:spPr>
          <a:xfrm>
            <a:off x="35208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8366-4BC6-4B08-90E2-2D266936ECE8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B1736903-A23B-4C8D-8EA4-FC84C1C1919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7912080" y="6593040"/>
            <a:ext cx="11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4BBB-21F5-4486-B59E-604517D42D1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14" name="Picture 23" descr="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415" name="Imagem 18" descr="gizlogo-unternehmen-de-hks.jpg"/>
          <p:cNvPicPr/>
          <p:nvPr/>
        </p:nvPicPr>
        <p:blipFill>
          <a:blip r:embed="rId4"/>
          <a:stretch/>
        </p:blipFill>
        <p:spPr>
          <a:xfrm>
            <a:off x="299880" y="128520"/>
            <a:ext cx="1905120" cy="4953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39320" y="1411200"/>
            <a:ext cx="69613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03932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4"/>
          </p:nvPr>
        </p:nvSpPr>
        <p:spPr>
          <a:xfrm>
            <a:off x="254160" y="658296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018B-CE10-4E15-9E21-3194731633A6}" type="datetime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5"/>
          </p:nvPr>
        </p:nvSpPr>
        <p:spPr>
          <a:xfrm>
            <a:off x="35208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tatiana.balzon@giz.de" TargetMode="External"/><Relationship Id="rId2" Type="http://schemas.openxmlformats.org/officeDocument/2006/relationships/hyperlink" Target="mailto:margit.gropper@giz.de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1864800"/>
            <a:ext cx="9144000" cy="147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80f0f"/>
                </a:solidFill>
                <a:latin typeface="Arial"/>
              </a:rPr>
              <a:t>Programa para Proteção e Gestão Sustentável das Florestas Tropic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63680" y="3436920"/>
            <a:ext cx="64166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envolvimento Regional 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upo 8"/>
          <p:cNvGrpSpPr/>
          <p:nvPr/>
        </p:nvGrpSpPr>
        <p:grpSpPr>
          <a:xfrm>
            <a:off x="739800" y="5051520"/>
            <a:ext cx="7664400" cy="1441440"/>
            <a:chOff x="739800" y="5051520"/>
            <a:chExt cx="7664400" cy="1441440"/>
          </a:xfrm>
        </p:grpSpPr>
        <p:pic>
          <p:nvPicPr>
            <p:cNvPr id="568" name="Picture 21" descr="0606_14_Wald Cametá"/>
            <p:cNvPicPr/>
            <p:nvPr/>
          </p:nvPicPr>
          <p:blipFill>
            <a:blip r:embed="rId1"/>
            <a:stretch/>
          </p:blipFill>
          <p:spPr>
            <a:xfrm>
              <a:off x="739800" y="5051520"/>
              <a:ext cx="19054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16" descr="imm025_24A"/>
            <p:cNvPicPr/>
            <p:nvPr/>
          </p:nvPicPr>
          <p:blipFill>
            <a:blip r:embed="rId2"/>
            <a:stretch/>
          </p:blipFill>
          <p:spPr>
            <a:xfrm>
              <a:off x="6522480" y="5051520"/>
              <a:ext cx="18817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19" descr="SIL0101S"/>
            <p:cNvPicPr/>
            <p:nvPr/>
          </p:nvPicPr>
          <p:blipFill>
            <a:blip r:embed="rId3"/>
            <a:stretch/>
          </p:blipFill>
          <p:spPr>
            <a:xfrm>
              <a:off x="4555080" y="5051520"/>
              <a:ext cx="194400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19" descr=""/>
            <p:cNvPicPr/>
            <p:nvPr/>
          </p:nvPicPr>
          <p:blipFill>
            <a:blip r:embed="rId4"/>
            <a:stretch/>
          </p:blipFill>
          <p:spPr>
            <a:xfrm>
              <a:off x="2639520" y="5051520"/>
              <a:ext cx="1906560" cy="1441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5760" y="1033560"/>
            <a:ext cx="818532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Plano Nacional das Cadeia dos Produtos da Sociobiodiversida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íodo de execução das atividades: agosto a dezembro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Espaço Reservado para Data 3"/>
          <p:cNvSpPr/>
          <p:nvPr/>
        </p:nvSpPr>
        <p:spPr>
          <a:xfrm>
            <a:off x="25416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4F0D-C88E-4844-AEAB-9A306B1B3AD1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63600" y="1770120"/>
            <a:ext cx="84024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ticulação e acompanhamento para a gestão e execução das ações do PNPSB junto ao setor empresarial, incluindo as ações de apoio a implementação do Selo da SocioBiodiversidade e de apoio a promoção comercial dos empreendimentos da SocioBiodiversida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companhamento e execução do PCT com o Ministério do Meio Ambiente/CE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aboração de termos de parcerias com o Setor Empresari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companhamento do andamento das PSE e dos processos de monitoramento e avaliação dos resultados e impactos das P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essoria à Gerência de Agroextrativismo na coordenação e acompanhamento dos Arranjos Produtivos Locais (APL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atação de consultores e consultori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alização de análises e pareceres referentes ao Plano Nacional da Sociobiodiversida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oio à capacitação e qualificação dos atores governamentais e não-governamentais relacionados ao Plano, incluindo a equipe da C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5760" y="1236600"/>
            <a:ext cx="818532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companhamento do PCT/CEX/PNPSB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íodo de execução das atividades: junho a dezembro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Espaço Reservado para Data 3"/>
          <p:cNvSpPr/>
          <p:nvPr/>
        </p:nvSpPr>
        <p:spPr>
          <a:xfrm>
            <a:off x="25416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6F5B-FF09-4828-84B6-934FD34E95A1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39320" y="1901520"/>
            <a:ext cx="69613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ação e acompanhamento de consultoria para mapeamento da produção atual e potencial da borracha em Amazonas, Acre, Pará e Rondônia e realização de oficina nacional para definição de diretrizes técnicas de manejo da borrach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ação e acompanhamento de estudo da cadeia de copaíb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gociação com Puma e elaboração dos documentos de projeto junto aos parceiros do Governo Brasileiro e dos Estados, inclusive organização de viagem, oficinas e reuniõ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ção da PSE com Boehringer e VG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75760" y="1033560"/>
            <a:ext cx="818532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companhamento do PCT/CEX/PNPSB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íodo de execução das atividades: agosto a dezembro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Espaço Reservado para Data 3"/>
          <p:cNvSpPr/>
          <p:nvPr/>
        </p:nvSpPr>
        <p:spPr>
          <a:xfrm>
            <a:off x="25416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0A14-1B23-4863-9893-96F8A1942D9E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039320" y="1814400"/>
            <a:ext cx="6961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ção de PSE com Hache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ção de PSE com PWA/Avi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ação e acompanhamento de consultoria para criação da Camara da Sociobiodiversidade no Ac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ganização da Capacitação em Gestão de Conflitos em Cadeias da Sociobiodiversidade (Brasília, 28 a 30/1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ganização da Capacitação Value Links (Rio Branco, 28/11 a 02/1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ação e acompanhamento da consultoria para elaboração do Plano Estadual de Promoção das Cadeias da Sociobiodiversidade do Amazon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ganização e envio do material para o evento “Dia internacional da floresta” em Bonn-Alemanh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5760" y="1165320"/>
            <a:ext cx="818532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companhamento do PCT/CEX/PNPSB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íodo de execução das atividades: agosto a dezembro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Espaço Reservado para Data 3"/>
          <p:cNvSpPr/>
          <p:nvPr/>
        </p:nvSpPr>
        <p:spPr>
          <a:xfrm>
            <a:off x="25416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3F73-29F2-429E-ADAE-040100310B74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952560" y="1857240"/>
            <a:ext cx="69609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ação e acompanhamento dos serviços da Exposição Itinerante Tradicional Mundo Moder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ganização do estande do PNPSB no Encontro Econômico Brasil Alemanha (Rio de Janeiro, 19 e 20/0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ganização da oficina de avaliação  da PSE com Borracha da Floresta no AM (adiada para 201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icipação das reuniões técnicas do PNPS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icipação da Comissão do Talentos do Brasil Rur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ipação  da Comissão da Copa Orgân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zação da Capacitação em Boas Práticas de Manejo de Produtos da Sociobiodiversidade (adiada para 201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75760" y="1033560"/>
            <a:ext cx="818532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companhamento do PCT/CEX/PNPSB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ividades não realizadas em 2011 por questões de 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Espaço Reservado para Data 3"/>
          <p:cNvSpPr/>
          <p:nvPr/>
        </p:nvSpPr>
        <p:spPr>
          <a:xfrm>
            <a:off x="25416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5B81-15CA-45C5-B00A-0B7D72A6F6FE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6" name="Espaço Reservado para Conteúdo 2"/>
          <p:cNvSpPr/>
          <p:nvPr/>
        </p:nvSpPr>
        <p:spPr>
          <a:xfrm>
            <a:off x="318960" y="2031840"/>
            <a:ext cx="827424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pacitações em Cadeia de Valor da Sociobiodiversidade (Nacional, Pará e Amazonas) – Por opção dos contrapartes as capacitações Value Links foram adiadas para 2012;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oio à criação e a institucionalização da Câmara da Sociobiodiversidade (apoio a realização do encontro da Câmara Nacional) – A câmara ainda está em processo de criação;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udo e oficina sobre diretrizes de manejo sustentável da piaçava – Por opção da CEX esse estudo só será realizado em 2012, quando o animador local da cadeia estiver contratado (via MDS/MMA/PNUD);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oio a Capacitação Virtual (200 pessoas) com módulos práticos presenciais (apoio para tutoria e manutenção TI) – Não foi realizada por falta de recursos da GIZ, apesar do processo ter sido todo discutido e organizado;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30492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30492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75760" y="1033560"/>
            <a:ext cx="818532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companhamento do PCT/CEX/PNPSB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ividades não realizadas em 2011 por questões de 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spaço Reservado para Data 3"/>
          <p:cNvSpPr/>
          <p:nvPr/>
        </p:nvSpPr>
        <p:spPr>
          <a:xfrm>
            <a:off x="25416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72AE-BC84-4EEF-9D05-FF8AC4569E8D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9" name="Espaço Reservado para Conteúdo 2"/>
          <p:cNvSpPr/>
          <p:nvPr/>
        </p:nvSpPr>
        <p:spPr>
          <a:xfrm>
            <a:off x="318960" y="2031840"/>
            <a:ext cx="827424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icinas de capacitação para elaboração de projetos visando captação de recursos para apoio a APL e Cadeias de produtos da Sociobiodiversidade – Não foi realizada por falta de recursos da GIZ, apesar do processo ter sido todo discutido e organizado. Faltou também articular com o Fundo Amazônia/GIZ.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304920" indent="-285840">
              <a:spcBef>
                <a:spcPts val="499"/>
              </a:spcBef>
              <a:buClr>
                <a:srgbClr val="c80f0f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ço Reservado para Data 3"/>
          <p:cNvSpPr/>
          <p:nvPr/>
        </p:nvSpPr>
        <p:spPr>
          <a:xfrm>
            <a:off x="25416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E415-1ADA-40EC-A2C3-D7DB0273BD7A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39320" y="1498680"/>
            <a:ext cx="6961320" cy="22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rigada</a:t>
            </a:r>
            <a:br>
              <a:rPr sz="3200"/>
            </a:br>
            <a:r>
              <a:rPr b="0" lang="pt-BR" sz="32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tatiana.balzon@giz.de</a:t>
            </a:r>
            <a:br>
              <a:rPr sz="3200"/>
            </a:br>
            <a:r>
              <a:rPr b="0" lang="pt-BR" sz="32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margit.gropper@giz.d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coastline-only"/>
          <p:cNvPicPr/>
          <p:nvPr/>
        </p:nvPicPr>
        <p:blipFill>
          <a:blip r:embed="rId3"/>
          <a:stretch/>
        </p:blipFill>
        <p:spPr>
          <a:xfrm>
            <a:off x="3041640" y="3313080"/>
            <a:ext cx="2982960" cy="1357200"/>
          </a:xfrm>
          <a:prstGeom prst="rect">
            <a:avLst/>
          </a:prstGeom>
          <a:ln w="0">
            <a:noFill/>
          </a:ln>
        </p:spPr>
      </p:pic>
      <p:grpSp>
        <p:nvGrpSpPr>
          <p:cNvPr id="593" name="Grupo 4"/>
          <p:cNvGrpSpPr/>
          <p:nvPr/>
        </p:nvGrpSpPr>
        <p:grpSpPr>
          <a:xfrm>
            <a:off x="739800" y="5051520"/>
            <a:ext cx="7664400" cy="1441440"/>
            <a:chOff x="739800" y="5051520"/>
            <a:chExt cx="7664400" cy="1441440"/>
          </a:xfrm>
        </p:grpSpPr>
        <p:pic>
          <p:nvPicPr>
            <p:cNvPr id="594" name="Picture 21" descr="0606_14_Wald Cametá"/>
            <p:cNvPicPr/>
            <p:nvPr/>
          </p:nvPicPr>
          <p:blipFill>
            <a:blip r:embed="rId4"/>
            <a:stretch/>
          </p:blipFill>
          <p:spPr>
            <a:xfrm>
              <a:off x="739800" y="5051520"/>
              <a:ext cx="190548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16" descr="imm025_24A"/>
            <p:cNvPicPr/>
            <p:nvPr/>
          </p:nvPicPr>
          <p:blipFill>
            <a:blip r:embed="rId5"/>
            <a:stretch/>
          </p:blipFill>
          <p:spPr>
            <a:xfrm>
              <a:off x="6522480" y="5051520"/>
              <a:ext cx="18817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9" descr="SIL0101S"/>
            <p:cNvPicPr/>
            <p:nvPr/>
          </p:nvPicPr>
          <p:blipFill>
            <a:blip r:embed="rId6"/>
            <a:stretch/>
          </p:blipFill>
          <p:spPr>
            <a:xfrm>
              <a:off x="4555080" y="5051520"/>
              <a:ext cx="194400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9" descr=""/>
            <p:cNvPicPr/>
            <p:nvPr/>
          </p:nvPicPr>
          <p:blipFill>
            <a:blip r:embed="rId7"/>
            <a:stretch/>
          </p:blipFill>
          <p:spPr>
            <a:xfrm>
              <a:off x="2639520" y="5051520"/>
              <a:ext cx="1906560" cy="1441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5:15:56Z</dcterms:created>
  <dc:creator>GTZ</dc:creator>
  <dc:description/>
  <cp:keywords>gtz-muestra</cp:keywords>
  <dc:language>en-US</dc:language>
  <cp:lastModifiedBy>Hp</cp:lastModifiedBy>
  <cp:lastPrinted>2005-12-21T12:33:01Z</cp:lastPrinted>
  <dcterms:modified xsi:type="dcterms:W3CDTF">2011-12-12T14:49:24Z</dcterms:modified>
  <cp:revision>540</cp:revision>
  <dc:subject/>
  <dc:title>PowerPoint-Präsentation, GTZ-Leerfolie spanisch, Stand November 2006</dc:title>
</cp:coreProperties>
</file>